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8EAC-F609-47BA-A530-E02F6901E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A1F0-1A38-447C-982C-5AD704CBF40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19/04/2013 10:35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p modelling of N and P respo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alysis of the data w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assess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tability with a temporal dim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3CBD-5113-48A7-A42E-AA91EF3B0E8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FAA2-F3BF-44FE-89D4-C4C7B70AF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F84F-F913-4A5A-B795-18DE94E66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D0CC-2E9D-4629-9C0B-7E1C1E092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CC57-9FC9-4223-AB17-9AFAEA7B5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26CD-6307-49E5-9621-66BD48C3C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1238-E479-4E08-8485-EA4FAB6A8E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6AE79-E6DB-408E-B94E-93EC2DB7A9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50023-B955-4A58-932D-B4ECD7F170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6ACC-3CA6-4118-A9BD-655E854B53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A76F-C7A3-4FE6-84E7-9C2DAE2D3E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B353-61B6-4320-A2FE-1EE960395A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F54B-393F-4BB2-A84C-B77F2AFFD59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C00E-099F-4474-8F9D-4E207EE90F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0D11-9B4F-4E73-8413-F3CB9C2EFB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A4C4-3E03-4C7C-B276-82892B2322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7BA6A-B04E-412C-9D04-3DF855EB7C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E425E-D43B-4A3F-B514-C46C2459DA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823C-3B3B-459B-AF6E-A1FACED6CE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17988-19BD-4054-9DE9-34D160BAD3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06C6-B602-485F-9DC6-762B196C506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2FD5-D6A4-4C03-82B5-3AC19BF38C9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747F9-7AD4-4D18-9D56-E73A5C0A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F59CB-187A-4E84-A5C9-204A429A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591B2-6CD4-4564-9CCD-50890673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13013-D479-42D2-A163-6B616D42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2A5C4-C5A5-4806-9E70-DEC48911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04CB9-8EEA-4ABB-A4FF-E3BAFB4D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23328-0FD5-4BD9-92CE-230557EC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39E76-27A0-42B2-B228-A2BF7844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07CBC-C855-4242-958A-67D394E7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858E-FE7C-4613-971E-FBD2CB5AF8E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269C1-AC8D-45AB-9C13-81187AE4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FE73D-F465-4758-98F0-DA71AF48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C5583-8303-48AD-9758-246A3193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1DD7-91DE-4286-98A8-03203739A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7D881-F30E-40D3-80AE-86ED86BB5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3C1B-E6D8-48C1-81C9-9AB28BB7F72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E161-94C9-4CF5-8A31-E08BDD7EE8B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3F7E-8BFE-4FA0-A44B-7147BF98439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0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From skeptism to realism: unlocking productivity potential under small holder farmers in Babati, Norther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00200" y="3809880"/>
            <a:ext cx="5562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ihara J., Kizito F., Lyimo S.D., Yangole L., Songoyani 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Users\user\Desktop\6719132809_d02a581715_s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 perceptions of soil condition relate well with observed produ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soil and water conservation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obtain yield improvements that pay off fertilizer and associated added costs of the improved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of some components such as beans still very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use specific components of IP is explained and suggestions made, including mechanization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use of fertilizers and poor agr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low below potential for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pigeonpea intercropp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crop performance with good agronomic practices under farmer conditions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farmer perceptions of production environments and Improved practice of maize/pigeonpea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er controlled trials of fertilizer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ilored agronomic surveys with farmers using fertilizers in different seasons (3 target pract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(like IP but no fertiliz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articipatory technology assessments at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4"/>
          <p:cNvSpPr/>
          <p:nvPr/>
        </p:nvSpPr>
        <p:spPr>
          <a:xfrm>
            <a:off x="8610480" y="6400800"/>
            <a:ext cx="609840" cy="396720"/>
          </a:xfrm>
          <a:prstGeom prst="bracketPair">
            <a:avLst>
              <a:gd name="adj" fmla="val 17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0E19-79BF-4C67-8109-2AECC1F7BFB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5527800" cy="40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692520" cy="3165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6225120" y="1066680"/>
            <a:ext cx="18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for ~60 t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armer x seas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4"/>
          <p:cNvCxnSpPr/>
          <p:nvPr/>
        </p:nvCxnSpPr>
        <p:spPr>
          <a:xfrm flipV="1">
            <a:off x="762120" y="2590200"/>
            <a:ext cx="358200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56" name="TextBox 7"/>
          <p:cNvSpPr/>
          <p:nvPr/>
        </p:nvSpPr>
        <p:spPr>
          <a:xfrm>
            <a:off x="380880" y="487692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plant d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tile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ximity to home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t man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tomland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urce: Kihara et al 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eft Brace 9"/>
          <p:cNvSpPr/>
          <p:nvPr/>
        </p:nvSpPr>
        <p:spPr>
          <a:xfrm>
            <a:off x="1981080" y="5299200"/>
            <a:ext cx="152640" cy="1299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1299960"/>
              <a:gd name="textAreaBottom" fmla="*/ 1296000 h 129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Brace 10"/>
          <p:cNvSpPr/>
          <p:nvPr/>
        </p:nvSpPr>
        <p:spPr>
          <a:xfrm>
            <a:off x="4419720" y="5257800"/>
            <a:ext cx="304560" cy="13413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341360"/>
              <a:gd name="textAreaBottom" fmla="*/ 133344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3472560" y="107784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7 farmer f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rvey 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2773440" y="2925720"/>
            <a:ext cx="6294240" cy="378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"/>
          <p:cNvPicPr/>
          <p:nvPr/>
        </p:nvPicPr>
        <p:blipFill>
          <a:blip r:embed="rId2"/>
          <a:stretch/>
        </p:blipFill>
        <p:spPr>
          <a:xfrm>
            <a:off x="139680" y="1143000"/>
            <a:ext cx="5651640" cy="33987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3"/>
          <p:cNvSpPr/>
          <p:nvPr/>
        </p:nvSpPr>
        <p:spPr>
          <a:xfrm>
            <a:off x="2182680" y="1446120"/>
            <a:ext cx="31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s from 76 farmer fields 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3"/>
          <a:stretch/>
        </p:blipFill>
        <p:spPr>
          <a:xfrm>
            <a:off x="55440" y="1206360"/>
            <a:ext cx="5542200" cy="33354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6"/>
          <p:cNvCxnSpPr/>
          <p:nvPr/>
        </p:nvCxnSpPr>
        <p:spPr>
          <a:xfrm flipV="1">
            <a:off x="1294920" y="2513880"/>
            <a:ext cx="358236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266" name="Straight Arrow Connector 9"/>
          <p:cNvCxnSpPr/>
          <p:nvPr/>
        </p:nvCxnSpPr>
        <p:spPr>
          <a:xfrm flipV="1">
            <a:off x="3733920" y="3962160"/>
            <a:ext cx="4496400" cy="175320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67" name="TextBox 14"/>
          <p:cNvSpPr/>
          <p:nvPr/>
        </p:nvSpPr>
        <p:spPr>
          <a:xfrm>
            <a:off x="1015920" y="12747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4"/>
          <a:stretch/>
        </p:blipFill>
        <p:spPr>
          <a:xfrm>
            <a:off x="5867280" y="1041480"/>
            <a:ext cx="2900520" cy="24685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7"/>
          <p:cNvSpPr/>
          <p:nvPr/>
        </p:nvSpPr>
        <p:spPr>
          <a:xfrm>
            <a:off x="5791320" y="35100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6435720" y="950760"/>
            <a:ext cx="95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 average of 27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9" descr=""/>
          <p:cNvPicPr/>
          <p:nvPr/>
        </p:nvPicPr>
        <p:blipFill>
          <a:blip r:embed="rId5"/>
          <a:stretch/>
        </p:blipFill>
        <p:spPr>
          <a:xfrm>
            <a:off x="0" y="4643280"/>
            <a:ext cx="2898720" cy="163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ertilizer use by farm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39960"/>
          <a:ext cx="7924680" cy="334152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1371600"/>
                <a:gridCol w="1523880"/>
                <a:gridCol w="17524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8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 txBox="1"/>
          <p:nvPr/>
        </p:nvSpPr>
        <p:spPr>
          <a:xfrm>
            <a:off x="41904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high numbers refused to use fertilizers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fertilizers is rapidly rising among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61920" y="1805040"/>
            <a:ext cx="9082080" cy="44528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s with fertilizers across vil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72880" y="1447920"/>
            <a:ext cx="8642520" cy="514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 change due to improv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Landscapes and farmer awarenes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625720" y="1600200"/>
            <a:ext cx="3289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erceive erosion and indicate willingness to addres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04920" y="1890720"/>
            <a:ext cx="5321160" cy="37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33:49Z</dcterms:created>
  <dc:creator>LeBorgne, Ewen (ILRI)</dc:creator>
  <dc:description/>
  <dc:language>en-US</dc:language>
  <cp:lastModifiedBy>Kihara Job</cp:lastModifiedBy>
  <cp:lastPrinted>2011-10-06T11:45:23Z</cp:lastPrinted>
  <dcterms:modified xsi:type="dcterms:W3CDTF">2016-06-30T08:25:04Z</dcterms:modified>
  <cp:revision>151</cp:revision>
  <dc:subject/>
  <dc:title>PowerPoint Presentation</dc:title>
</cp:coreProperties>
</file>